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DB2-04CB-49FF-B0C3-0BA57AFE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E5A-AE6D-4818-A653-1AC9B3C2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0EE-B783-438A-9304-C0C9DAEF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E98-10E6-4965-A9FD-EC8A0849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BC32-1014-4A94-8BEA-9ECF5ECA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1AF3-897E-4E02-826A-38EC21A9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DF99-89D5-457B-9927-79325C4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A25-984D-4C54-B663-C2950A82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37E9-5DF6-4120-9941-9F570659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6F75-E92C-48F9-A36D-B881126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D359-64B3-408D-A522-1A046E8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3C0-A5BA-4716-889A-2A54E2C3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5DF-39C7-45DE-AA6B-B3055C6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7F52-FDA9-4005-A345-A76901EC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8B90-899F-4861-8844-7A8DA80B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4731-974E-4E64-8243-AC7E3244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633F-5423-46FD-BD97-1DEEA28C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526-41C0-4A3E-81AA-14181E8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0ED-F1CF-4983-9F7C-20FE591C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F9A-32ED-4012-A074-F94D5E6B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5B4-7F58-40E0-BB0D-E4CF45A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890-593B-4494-BC9E-8B33F13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F0F-90FF-4379-A486-FCA6A72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6C5-20E5-4FFF-9C21-A18DDC8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41120" y="0"/>
            <a:ext cx="9427680" cy="6858000"/>
            <a:chOff x="-141120" y="0"/>
            <a:chExt cx="942768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-141120" y="146160"/>
              <a:ext cx="9427680" cy="6439680"/>
              <a:chOff x="-141120" y="146160"/>
              <a:chExt cx="9427680" cy="643968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41120" y="185400"/>
                <a:ext cx="1426680" cy="1398600"/>
                <a:chOff x="-141120" y="185400"/>
                <a:chExt cx="1426680" cy="139860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28800">
                  <a:off x="782640" y="602280"/>
                  <a:ext cx="144360" cy="21600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28800">
                  <a:off x="836640" y="84384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22" h="104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0" y="10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28800">
                  <a:off x="900000" y="702720"/>
                  <a:ext cx="145800" cy="2160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28800">
                  <a:off x="7920" y="446760"/>
                  <a:ext cx="1128240" cy="875880"/>
                </a:xfrm>
                <a:custGeom>
                  <a:avLst/>
                  <a:gdLst>
                    <a:gd name="textAreaLeft" fmla="*/ 0 w 1128240"/>
                    <a:gd name="textAreaRight" fmla="*/ 1128600 w 1128240"/>
                    <a:gd name="textAreaTop" fmla="*/ 0 h 875880"/>
                    <a:gd name="textAreaBottom" fmla="*/ 876240 h 87588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09880" y="1459800"/>
                <a:ext cx="1280160" cy="1236960"/>
                <a:chOff x="209880" y="1459800"/>
                <a:chExt cx="1280160" cy="123696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93400">
                  <a:off x="619920" y="184896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93400">
                  <a:off x="771120" y="19692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75" h="47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93400">
                  <a:off x="716760" y="1780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93400">
                  <a:off x="353520" y="1671120"/>
                  <a:ext cx="992520" cy="813960"/>
                </a:xfrm>
                <a:custGeom>
                  <a:avLst/>
                  <a:gdLst>
                    <a:gd name="textAreaLeft" fmla="*/ 0 w 992520"/>
                    <a:gd name="textAreaRight" fmla="*/ 992880 w 992520"/>
                    <a:gd name="textAreaTop" fmla="*/ 0 h 813960"/>
                    <a:gd name="textAreaBottom" fmla="*/ 814320 h 8139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27880" y="4343400"/>
                <a:ext cx="1421280" cy="1368000"/>
                <a:chOff x="227880" y="4343400"/>
                <a:chExt cx="1421280" cy="136800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710600">
                  <a:off x="679680" y="474588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710600">
                  <a:off x="856080" y="4896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37" h="5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710600">
                  <a:off x="800280" y="467100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710600">
                  <a:off x="390960" y="4560120"/>
                  <a:ext cx="1094760" cy="93384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840"/>
                    <a:gd name="textAreaBottom" fmla="*/ 934200 h 9338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7499520" y="146160"/>
                <a:ext cx="1787040" cy="1720080"/>
                <a:chOff x="7499520" y="146160"/>
                <a:chExt cx="1787040" cy="172008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710600">
                  <a:off x="8067960" y="652320"/>
                  <a:ext cx="164880" cy="2462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710600">
                  <a:off x="8288640" y="8413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6" h="67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710600">
                  <a:off x="8218800" y="558360"/>
                  <a:ext cx="164880" cy="2476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710600">
                  <a:off x="7704720" y="419040"/>
                  <a:ext cx="1376640" cy="1173960"/>
                </a:xfrm>
                <a:custGeom>
                  <a:avLst/>
                  <a:gdLst>
                    <a:gd name="textAreaLeft" fmla="*/ 0 w 1376640"/>
                    <a:gd name="textAreaRight" fmla="*/ 1377000 w 1376640"/>
                    <a:gd name="textAreaTop" fmla="*/ 0 h 1173960"/>
                    <a:gd name="textAreaBottom" fmla="*/ 1174320 h 117396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129440" y="3505320"/>
                <a:ext cx="1861560" cy="1825200"/>
                <a:chOff x="7129440" y="3505320"/>
                <a:chExt cx="1861560" cy="182520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28800">
                  <a:off x="8006760" y="4073040"/>
                  <a:ext cx="189000" cy="2826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28800">
                  <a:off x="8078400" y="43887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81" h="136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28800">
                  <a:off x="8160840" y="4206600"/>
                  <a:ext cx="190440" cy="2808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28800">
                  <a:off x="7324200" y="3846240"/>
                  <a:ext cx="1472040" cy="114300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7611120" y="5105160"/>
                <a:ext cx="1532520" cy="1480680"/>
                <a:chOff x="7611120" y="5105160"/>
                <a:chExt cx="1532520" cy="148068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93400">
                  <a:off x="8101800" y="5570640"/>
                  <a:ext cx="131400" cy="19656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93400">
                  <a:off x="8282880" y="57153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69" h="5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93400">
                  <a:off x="821736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93400">
                  <a:off x="7783200" y="5358240"/>
                  <a:ext cx="1188360" cy="974520"/>
                </a:xfrm>
                <a:custGeom>
                  <a:avLst/>
                  <a:gdLst>
                    <a:gd name="textAreaLeft" fmla="*/ 0 w 1188360"/>
                    <a:gd name="textAreaRight" fmla="*/ 1188720 w 1188360"/>
                    <a:gd name="textAreaTop" fmla="*/ 0 h 974520"/>
                    <a:gd name="textAreaBottom" fmla="*/ 974880 h 9745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57960"/>
              <a:ext cx="9184680" cy="6800040"/>
              <a:chOff x="0" y="57960"/>
              <a:chExt cx="9184680" cy="680004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2000" y="57960"/>
                <a:ext cx="1895400" cy="1689480"/>
                <a:chOff x="72000" y="57960"/>
                <a:chExt cx="1895400" cy="168948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59200">
                  <a:off x="761760" y="591120"/>
                  <a:ext cx="199800" cy="2970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59200">
                  <a:off x="1022040" y="83736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862" h="8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59200">
                  <a:off x="956880" y="498960"/>
                  <a:ext cx="199800" cy="2952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10200">
                  <a:off x="214200" y="241920"/>
                  <a:ext cx="1611000" cy="132120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321200"/>
                    <a:gd name="textAreaBottom" fmla="*/ 1321560 h 13212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238880" y="456840"/>
                <a:ext cx="1316520" cy="1237320"/>
                <a:chOff x="7238880" y="456840"/>
                <a:chExt cx="1316520" cy="123732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419600">
                  <a:off x="7872840" y="730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419600">
                  <a:off x="7953840" y="93852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14" h="5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419600">
                  <a:off x="7996680" y="784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419600">
                  <a:off x="7373880" y="628920"/>
                  <a:ext cx="1046160" cy="89244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440"/>
                    <a:gd name="textAreaBottom" fmla="*/ 892800 h 8924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42000">
                <a:off x="7057800" y="3703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1757">
                    <a:moveTo>
                      <a:pt x="0" y="0"/>
                    </a:moveTo>
                    <a:lnTo>
                      <a:pt x="0" y="0"/>
                    </a:lnTo>
                    <a:lnTo>
                      <a:pt x="0" y="1757"/>
                    </a:lnTo>
                    <a:lnTo>
                      <a:pt x="0" y="17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7833600" y="4215960"/>
                <a:ext cx="1351080" cy="1224360"/>
                <a:chOff x="7833600" y="4215960"/>
                <a:chExt cx="1351080" cy="122436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45200">
                  <a:off x="8359200" y="4886280"/>
                  <a:ext cx="125280" cy="18432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45200">
                  <a:off x="8434440" y="50929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535" h="5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45200">
                  <a:off x="8478360" y="4947840"/>
                  <a:ext cx="123840" cy="182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91200">
                  <a:off x="7949880" y="4369680"/>
                  <a:ext cx="1118160" cy="916920"/>
                </a:xfrm>
                <a:custGeom>
                  <a:avLst/>
                  <a:gdLst>
                    <a:gd name="textAreaLeft" fmla="*/ 0 w 1118160"/>
                    <a:gd name="textAreaRight" fmla="*/ 1118520 w 1118160"/>
                    <a:gd name="textAreaTop" fmla="*/ 0 h 916920"/>
                    <a:gd name="textAreaBottom" fmla="*/ 917280 h 916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334120"/>
                <a:ext cx="1188000" cy="1523880"/>
                <a:chOff x="0" y="5334120"/>
                <a:chExt cx="1188000" cy="152388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373320" y="5703840"/>
                  <a:ext cx="21960" cy="3063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>
                  <a:off x="392400" y="6015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06440" y="5883480"/>
                  <a:ext cx="276120" cy="13464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334120"/>
                  <a:ext cx="1188000" cy="152388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880"/>
                    <a:gd name="textAreaBottom" fmla="*/ 1524240 h 152388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2846160"/>
                <a:ext cx="930240" cy="1301760"/>
                <a:chOff x="0" y="2846160"/>
                <a:chExt cx="930240" cy="130176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446280"/>
                  <a:ext cx="83880" cy="13176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>
                  <a:off x="87120" y="3584520"/>
                  <a:ext cx="360" cy="2880"/>
                </a:xfrm>
                <a:custGeom>
                  <a:avLst/>
                  <a:gdLst/>
                  <a:ahLst/>
                  <a:rect l="l" t="t" r="r" b="b"/>
                  <a:pathLst>
                    <a:path w="0" h="235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350"/>
                      </a:lnTo>
                      <a:lnTo>
                        <a:pt x="0" y="235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01520" y="3255840"/>
                  <a:ext cx="215640" cy="3222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2200"/>
                    <a:gd name="textAreaBottom" fmla="*/ 322560 h 32220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2846160"/>
                  <a:ext cx="930240" cy="130176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760"/>
                    <a:gd name="textAreaBottom" fmla="*/ 1302120 h 130176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rgbClr val="d8f2ab">
                    <a:alpha val="14000"/>
                  </a:srgbClr>
                </a:solidFill>
                <a:ln w="9360">
                  <a:solidFill>
                    <a:srgbClr val="abcb6a">
                      <a:alpha val="1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4876920" y="5704560"/>
                <a:ext cx="1752480" cy="1153440"/>
                <a:chOff x="4876920" y="5704560"/>
                <a:chExt cx="1752480" cy="115344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5599080" y="6247080"/>
                  <a:ext cx="15840" cy="3855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>
                  <a:off x="5610240" y="6640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5627880" y="6482160"/>
                  <a:ext cx="353880" cy="16164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4876920" y="5704560"/>
                  <a:ext cx="1752480" cy="115344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153440"/>
                    <a:gd name="textAreaBottom" fmla="*/ 1153800 h 115344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rgbClr val="d8f2ab">
                    <a:alpha val="9000"/>
                  </a:srgbClr>
                </a:solidFill>
                <a:ln w="9360">
                  <a:solidFill>
                    <a:srgbClr val="feffff">
                      <a:alpha val="12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7848720" y="1523520"/>
                <a:ext cx="1295280" cy="1685520"/>
                <a:chOff x="7848720" y="1523520"/>
                <a:chExt cx="1295280" cy="168552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8456760" y="1991520"/>
                  <a:ext cx="296640" cy="195120"/>
                </a:xfrm>
                <a:custGeom>
                  <a:avLst/>
                  <a:gdLst>
                    <a:gd name="textAreaLeft" fmla="*/ 0 w 296640"/>
                    <a:gd name="textAreaRight" fmla="*/ 297000 w 29664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>
                  <a:off x="8758440" y="2194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8769600" y="1831320"/>
                  <a:ext cx="66600" cy="3506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7848720" y="1523520"/>
                  <a:ext cx="1295280" cy="168552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685520"/>
                    <a:gd name="textAreaBottom" fmla="*/ 1685880 h 16855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7679520" y="5943600"/>
                <a:ext cx="1331640" cy="914400"/>
                <a:chOff x="7679520" y="5943600"/>
                <a:chExt cx="1331640" cy="91440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7679520" y="6346800"/>
                  <a:ext cx="203040" cy="9504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>
                  <a:off x="7884000" y="6446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7889040" y="6215040"/>
                  <a:ext cx="14040" cy="2221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7920720" y="5943600"/>
                  <a:ext cx="1090440" cy="914400"/>
                </a:xfrm>
                <a:custGeom>
                  <a:avLst/>
                  <a:gdLst>
                    <a:gd name="textAreaLeft" fmla="*/ 0 w 1090440"/>
                    <a:gd name="textAreaRight" fmla="*/ 1090800 w 10904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9211320" cy="6829560"/>
              <a:chOff x="0" y="0"/>
              <a:chExt cx="9211320" cy="682956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7696080" y="2819520"/>
                <a:ext cx="1404000" cy="3468600"/>
                <a:chOff x="7696080" y="2819520"/>
                <a:chExt cx="1404000" cy="346860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19200">
                  <a:off x="8079120" y="3112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19200">
                  <a:off x="822096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51" h="45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19200">
                  <a:off x="8187120" y="3062160"/>
                  <a:ext cx="109440" cy="16488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19200">
                  <a:off x="7817400" y="2975040"/>
                  <a:ext cx="917280" cy="782640"/>
                </a:xfrm>
                <a:custGeom>
                  <a:avLst/>
                  <a:gdLst>
                    <a:gd name="textAreaLeft" fmla="*/ 0 w 917280"/>
                    <a:gd name="textAreaRight" fmla="*/ 917640 w 91728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2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822600">
                  <a:off x="7925040" y="5250600"/>
                  <a:ext cx="1081080" cy="922320"/>
                </a:xfrm>
                <a:custGeom>
                  <a:avLst/>
                  <a:gdLst>
                    <a:gd name="textAreaLeft" fmla="*/ 0 w 1081080"/>
                    <a:gd name="textAreaRight" fmla="*/ 1081440 w 108108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6854760" y="5524920"/>
                <a:ext cx="1110960" cy="1304640"/>
                <a:chOff x="6854760" y="5524920"/>
                <a:chExt cx="1110960" cy="130464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92000">
                  <a:off x="7714800" y="5525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472" h="4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92800">
                  <a:off x="6916680" y="5941080"/>
                  <a:ext cx="986760" cy="809640"/>
                </a:xfrm>
                <a:custGeom>
                  <a:avLst/>
                  <a:gdLst>
                    <a:gd name="textAreaLeft" fmla="*/ 0 w 986760"/>
                    <a:gd name="textAreaRight" fmla="*/ 987120 w 98676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abcb6a">
                    <a:alpha val="10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317280" y="1055520"/>
                <a:ext cx="1840320" cy="1753560"/>
                <a:chOff x="6317280" y="1055520"/>
                <a:chExt cx="1840320" cy="175356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7200">
                  <a:off x="7162560" y="158904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7200">
                  <a:off x="7253280" y="19015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4" h="134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47"/>
                      </a:lnTo>
                      <a:lnTo>
                        <a:pt x="0" y="134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7200">
                  <a:off x="7329240" y="170172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7200">
                  <a:off x="6508800" y="1366560"/>
                  <a:ext cx="1456920" cy="1131120"/>
                </a:xfrm>
                <a:custGeom>
                  <a:avLst/>
                  <a:gdLst>
                    <a:gd name="textAreaLeft" fmla="*/ 0 w 1456920"/>
                    <a:gd name="textAreaRight" fmla="*/ 1457280 w 1456920"/>
                    <a:gd name="textAreaTop" fmla="*/ 0 h 1131120"/>
                    <a:gd name="textAreaBottom" fmla="*/ 1131480 h 11311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9360">
                  <a:solidFill>
                    <a:srgbClr val="d8f2ab">
                      <a:alpha val="1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125920" y="3738600"/>
                <a:ext cx="1085400" cy="916200"/>
                <a:chOff x="8125920" y="3738600"/>
                <a:chExt cx="1085400" cy="91620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19800">
                  <a:off x="8498160" y="40240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19800">
                  <a:off x="8656560" y="41763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44" h="8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87"/>
                      </a:lnTo>
                      <a:lnTo>
                        <a:pt x="0" y="88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19800">
                  <a:off x="8618760" y="39682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932800">
                  <a:off x="8188560" y="3823920"/>
                  <a:ext cx="959760" cy="74520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5200"/>
                    <a:gd name="textAreaBottom" fmla="*/ 745560 h 7452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387360" y="1444320"/>
                  <a:ext cx="357120" cy="19188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>
                  <a:off x="750600" y="1641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760320" y="122544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273560"/>
                <a:ext cx="1192320" cy="1365120"/>
                <a:chOff x="0" y="4273560"/>
                <a:chExt cx="1192320" cy="136512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399960" y="4638600"/>
                  <a:ext cx="14040" cy="3618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>
                  <a:off x="439560" y="4930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15800" y="4870440"/>
                  <a:ext cx="334800" cy="14112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273560"/>
                  <a:ext cx="1192320" cy="136512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5120"/>
                    <a:gd name="textAreaBottom" fmla="*/ 1365480 h 136512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7366680" y="0"/>
                <a:ext cx="1266480" cy="990360"/>
                <a:chOff x="7366680" y="0"/>
                <a:chExt cx="1266480" cy="99036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7700040" y="0"/>
                  <a:ext cx="185400" cy="1886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>
                  <a:off x="7887240" y="193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7895160" y="0"/>
                  <a:ext cx="85680" cy="18576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7366680" y="0"/>
                  <a:ext cx="1266480" cy="990360"/>
                </a:xfrm>
                <a:custGeom>
                  <a:avLst/>
                  <a:gdLst>
                    <a:gd name="textAreaLeft" fmla="*/ 0 w 1266480"/>
                    <a:gd name="textAreaRight" fmla="*/ 1266840 w 126648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8323920" y="990360"/>
                <a:ext cx="819720" cy="1066680"/>
                <a:chOff x="8323920" y="990360"/>
                <a:chExt cx="819720" cy="106668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8709120" y="1287000"/>
                  <a:ext cx="186840" cy="12204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>
                  <a:off x="8899560" y="1415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8907480" y="1185480"/>
                  <a:ext cx="41040" cy="2221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8323920" y="990360"/>
                  <a:ext cx="819720" cy="1066680"/>
                </a:xfrm>
                <a:custGeom>
                  <a:avLst/>
                  <a:gdLst>
                    <a:gd name="textAreaLeft" fmla="*/ 0 w 819720"/>
                    <a:gd name="textAreaRight" fmla="*/ 820080 w 81972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8FF-3D3F-4B23-9704-9EC1039AD714}" type="datetime">
              <a:rPr b="0" lang="es-ES" sz="900" spc="-1" strike="noStrike">
                <a:solidFill>
                  <a:srgbClr val="404040"/>
                </a:solidFill>
                <a:latin typeface="Verdana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7065-8A43-43A4-91AB-F998154D0B15}" type="slidenum">
              <a:rPr b="0" lang="es-E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4"/>
          <p:cNvGrpSpPr/>
          <p:nvPr/>
        </p:nvGrpSpPr>
        <p:grpSpPr>
          <a:xfrm>
            <a:off x="-141120" y="0"/>
            <a:ext cx="9427680" cy="6858000"/>
            <a:chOff x="-141120" y="0"/>
            <a:chExt cx="9427680" cy="6858000"/>
          </a:xfrm>
        </p:grpSpPr>
        <p:grpSp>
          <p:nvGrpSpPr>
            <p:cNvPr id="156" name="Group 638"/>
            <p:cNvGrpSpPr/>
            <p:nvPr/>
          </p:nvGrpSpPr>
          <p:grpSpPr>
            <a:xfrm>
              <a:off x="-141120" y="146160"/>
              <a:ext cx="9427680" cy="6439680"/>
              <a:chOff x="-141120" y="146160"/>
              <a:chExt cx="9427680" cy="6439680"/>
            </a:xfrm>
          </p:grpSpPr>
          <p:grpSp>
            <p:nvGrpSpPr>
              <p:cNvPr id="157" name="Group 121"/>
              <p:cNvGrpSpPr/>
              <p:nvPr/>
            </p:nvGrpSpPr>
            <p:grpSpPr>
              <a:xfrm>
                <a:off x="-141120" y="185400"/>
                <a:ext cx="1426680" cy="1398600"/>
                <a:chOff x="-141120" y="185400"/>
                <a:chExt cx="1426680" cy="1398600"/>
              </a:xfrm>
            </p:grpSpPr>
            <p:sp>
              <p:nvSpPr>
                <p:cNvPr id="158" name="Freeform 72"/>
                <p:cNvSpPr/>
                <p:nvPr/>
              </p:nvSpPr>
              <p:spPr>
                <a:xfrm rot="2428800">
                  <a:off x="782640" y="602280"/>
                  <a:ext cx="144360" cy="21600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73"/>
                <p:cNvSpPr/>
                <p:nvPr/>
              </p:nvSpPr>
              <p:spPr>
                <a:xfrm rot="2428800">
                  <a:off x="836640" y="84384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22" h="104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0" y="10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4"/>
                <p:cNvSpPr/>
                <p:nvPr/>
              </p:nvSpPr>
              <p:spPr>
                <a:xfrm rot="2428800">
                  <a:off x="900000" y="702720"/>
                  <a:ext cx="145800" cy="2160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5"/>
                <p:cNvSpPr/>
                <p:nvPr/>
              </p:nvSpPr>
              <p:spPr>
                <a:xfrm rot="2428800">
                  <a:off x="7920" y="446760"/>
                  <a:ext cx="1128240" cy="875880"/>
                </a:xfrm>
                <a:custGeom>
                  <a:avLst/>
                  <a:gdLst>
                    <a:gd name="textAreaLeft" fmla="*/ 0 w 1128240"/>
                    <a:gd name="textAreaRight" fmla="*/ 1128600 w 1128240"/>
                    <a:gd name="textAreaTop" fmla="*/ 0 h 875880"/>
                    <a:gd name="textAreaBottom" fmla="*/ 876240 h 87588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142"/>
              <p:cNvGrpSpPr/>
              <p:nvPr/>
            </p:nvGrpSpPr>
            <p:grpSpPr>
              <a:xfrm>
                <a:off x="209880" y="1459800"/>
                <a:ext cx="1280160" cy="1236960"/>
                <a:chOff x="209880" y="1459800"/>
                <a:chExt cx="1280160" cy="1236960"/>
              </a:xfrm>
            </p:grpSpPr>
            <p:sp>
              <p:nvSpPr>
                <p:cNvPr id="163" name="Freeform 79"/>
                <p:cNvSpPr/>
                <p:nvPr/>
              </p:nvSpPr>
              <p:spPr>
                <a:xfrm rot="19493400">
                  <a:off x="619920" y="184896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0"/>
                <p:cNvSpPr/>
                <p:nvPr/>
              </p:nvSpPr>
              <p:spPr>
                <a:xfrm rot="19493400">
                  <a:off x="771120" y="19692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75" h="47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rot="19493400">
                  <a:off x="716760" y="1780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82"/>
                <p:cNvSpPr/>
                <p:nvPr/>
              </p:nvSpPr>
              <p:spPr>
                <a:xfrm rot="19493400">
                  <a:off x="353520" y="1671120"/>
                  <a:ext cx="992520" cy="813960"/>
                </a:xfrm>
                <a:custGeom>
                  <a:avLst/>
                  <a:gdLst>
                    <a:gd name="textAreaLeft" fmla="*/ 0 w 992520"/>
                    <a:gd name="textAreaRight" fmla="*/ 992880 w 992520"/>
                    <a:gd name="textAreaTop" fmla="*/ 0 h 813960"/>
                    <a:gd name="textAreaBottom" fmla="*/ 814320 h 8139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47"/>
              <p:cNvGrpSpPr/>
              <p:nvPr/>
            </p:nvGrpSpPr>
            <p:grpSpPr>
              <a:xfrm>
                <a:off x="227880" y="4343400"/>
                <a:ext cx="1421280" cy="1368000"/>
                <a:chOff x="227880" y="4343400"/>
                <a:chExt cx="1421280" cy="1368000"/>
              </a:xfrm>
            </p:grpSpPr>
            <p:sp>
              <p:nvSpPr>
                <p:cNvPr id="168" name="Freeform 86"/>
                <p:cNvSpPr/>
                <p:nvPr/>
              </p:nvSpPr>
              <p:spPr>
                <a:xfrm rot="19710600">
                  <a:off x="679680" y="474588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87"/>
                <p:cNvSpPr/>
                <p:nvPr/>
              </p:nvSpPr>
              <p:spPr>
                <a:xfrm rot="19710600">
                  <a:off x="856080" y="4896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37" h="5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8"/>
                <p:cNvSpPr/>
                <p:nvPr/>
              </p:nvSpPr>
              <p:spPr>
                <a:xfrm rot="19710600">
                  <a:off x="800280" y="467100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89"/>
                <p:cNvSpPr/>
                <p:nvPr/>
              </p:nvSpPr>
              <p:spPr>
                <a:xfrm rot="19710600">
                  <a:off x="390960" y="4560120"/>
                  <a:ext cx="1094760" cy="93384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840"/>
                    <a:gd name="textAreaBottom" fmla="*/ 934200 h 9338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72"/>
              <p:cNvGrpSpPr/>
              <p:nvPr/>
            </p:nvGrpSpPr>
            <p:grpSpPr>
              <a:xfrm>
                <a:off x="7499520" y="146160"/>
                <a:ext cx="1787040" cy="1720080"/>
                <a:chOff x="7499520" y="146160"/>
                <a:chExt cx="1787040" cy="1720080"/>
              </a:xfrm>
            </p:grpSpPr>
            <p:sp>
              <p:nvSpPr>
                <p:cNvPr id="173" name="Freeform 86"/>
                <p:cNvSpPr/>
                <p:nvPr/>
              </p:nvSpPr>
              <p:spPr>
                <a:xfrm rot="19710600">
                  <a:off x="8067960" y="652320"/>
                  <a:ext cx="164880" cy="2462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87"/>
                <p:cNvSpPr/>
                <p:nvPr/>
              </p:nvSpPr>
              <p:spPr>
                <a:xfrm rot="19710600">
                  <a:off x="8288640" y="8413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6" h="67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8"/>
                <p:cNvSpPr/>
                <p:nvPr/>
              </p:nvSpPr>
              <p:spPr>
                <a:xfrm rot="19710600">
                  <a:off x="8218800" y="558360"/>
                  <a:ext cx="164880" cy="2476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89"/>
                <p:cNvSpPr/>
                <p:nvPr/>
              </p:nvSpPr>
              <p:spPr>
                <a:xfrm rot="19710600">
                  <a:off x="7704720" y="419040"/>
                  <a:ext cx="1376640" cy="1173960"/>
                </a:xfrm>
                <a:custGeom>
                  <a:avLst/>
                  <a:gdLst>
                    <a:gd name="textAreaLeft" fmla="*/ 0 w 1376640"/>
                    <a:gd name="textAreaRight" fmla="*/ 1377000 w 1376640"/>
                    <a:gd name="textAreaTop" fmla="*/ 0 h 1173960"/>
                    <a:gd name="textAreaBottom" fmla="*/ 1174320 h 117396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77"/>
              <p:cNvGrpSpPr/>
              <p:nvPr/>
            </p:nvGrpSpPr>
            <p:grpSpPr>
              <a:xfrm>
                <a:off x="7129440" y="3505320"/>
                <a:ext cx="1861560" cy="1825200"/>
                <a:chOff x="7129440" y="3505320"/>
                <a:chExt cx="1861560" cy="1825200"/>
              </a:xfrm>
            </p:grpSpPr>
            <p:sp>
              <p:nvSpPr>
                <p:cNvPr id="178" name="Freeform 72"/>
                <p:cNvSpPr/>
                <p:nvPr/>
              </p:nvSpPr>
              <p:spPr>
                <a:xfrm rot="2428800">
                  <a:off x="8006760" y="4073040"/>
                  <a:ext cx="189000" cy="2826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3"/>
                <p:cNvSpPr/>
                <p:nvPr/>
              </p:nvSpPr>
              <p:spPr>
                <a:xfrm rot="2428800">
                  <a:off x="8078400" y="43887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81" h="136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4"/>
                <p:cNvSpPr/>
                <p:nvPr/>
              </p:nvSpPr>
              <p:spPr>
                <a:xfrm rot="2428800">
                  <a:off x="8160840" y="4206600"/>
                  <a:ext cx="190440" cy="2808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5"/>
                <p:cNvSpPr/>
                <p:nvPr/>
              </p:nvSpPr>
              <p:spPr>
                <a:xfrm rot="2428800">
                  <a:off x="7324200" y="3846240"/>
                  <a:ext cx="1472040" cy="114300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82"/>
              <p:cNvGrpSpPr/>
              <p:nvPr/>
            </p:nvGrpSpPr>
            <p:grpSpPr>
              <a:xfrm>
                <a:off x="7611120" y="5105160"/>
                <a:ext cx="1532520" cy="1480680"/>
                <a:chOff x="7611120" y="5105160"/>
                <a:chExt cx="1532520" cy="1480680"/>
              </a:xfrm>
            </p:grpSpPr>
            <p:sp>
              <p:nvSpPr>
                <p:cNvPr id="183" name="Freeform 79"/>
                <p:cNvSpPr/>
                <p:nvPr/>
              </p:nvSpPr>
              <p:spPr>
                <a:xfrm rot="19493400">
                  <a:off x="8101800" y="5570640"/>
                  <a:ext cx="131400" cy="19656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0"/>
                <p:cNvSpPr/>
                <p:nvPr/>
              </p:nvSpPr>
              <p:spPr>
                <a:xfrm rot="19493400">
                  <a:off x="8282880" y="57153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69" h="5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rot="19493400">
                  <a:off x="821736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2"/>
                <p:cNvSpPr/>
                <p:nvPr/>
              </p:nvSpPr>
              <p:spPr>
                <a:xfrm rot="19493400">
                  <a:off x="7783200" y="5358240"/>
                  <a:ext cx="1188360" cy="974520"/>
                </a:xfrm>
                <a:custGeom>
                  <a:avLst/>
                  <a:gdLst>
                    <a:gd name="textAreaLeft" fmla="*/ 0 w 1188360"/>
                    <a:gd name="textAreaRight" fmla="*/ 1188720 w 1188360"/>
                    <a:gd name="textAreaTop" fmla="*/ 0 h 974520"/>
                    <a:gd name="textAreaBottom" fmla="*/ 974880 h 9745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Group 669"/>
            <p:cNvGrpSpPr/>
            <p:nvPr/>
          </p:nvGrpSpPr>
          <p:grpSpPr>
            <a:xfrm>
              <a:off x="0" y="57960"/>
              <a:ext cx="9184680" cy="6800040"/>
              <a:chOff x="0" y="57960"/>
              <a:chExt cx="9184680" cy="6800040"/>
            </a:xfrm>
          </p:grpSpPr>
          <p:grpSp>
            <p:nvGrpSpPr>
              <p:cNvPr id="188" name="Group 32"/>
              <p:cNvGrpSpPr/>
              <p:nvPr/>
            </p:nvGrpSpPr>
            <p:grpSpPr>
              <a:xfrm>
                <a:off x="72000" y="57960"/>
                <a:ext cx="1895400" cy="1689480"/>
                <a:chOff x="72000" y="57960"/>
                <a:chExt cx="1895400" cy="1689480"/>
              </a:xfrm>
            </p:grpSpPr>
            <p:sp>
              <p:nvSpPr>
                <p:cNvPr id="189" name="Freeform 79"/>
                <p:cNvSpPr/>
                <p:nvPr/>
              </p:nvSpPr>
              <p:spPr>
                <a:xfrm rot="20059200">
                  <a:off x="761760" y="591120"/>
                  <a:ext cx="199800" cy="2970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0"/>
                <p:cNvSpPr/>
                <p:nvPr/>
              </p:nvSpPr>
              <p:spPr>
                <a:xfrm rot="20059200">
                  <a:off x="1022040" y="83736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862" h="8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81"/>
                <p:cNvSpPr/>
                <p:nvPr/>
              </p:nvSpPr>
              <p:spPr>
                <a:xfrm rot="20059200">
                  <a:off x="956880" y="498960"/>
                  <a:ext cx="199800" cy="2952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82"/>
                <p:cNvSpPr/>
                <p:nvPr/>
              </p:nvSpPr>
              <p:spPr>
                <a:xfrm rot="20710200">
                  <a:off x="214200" y="241920"/>
                  <a:ext cx="1611000" cy="132120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321200"/>
                    <a:gd name="textAreaBottom" fmla="*/ 1321560 h 13212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7238880" y="456840"/>
                <a:ext cx="1316520" cy="1237320"/>
                <a:chOff x="7238880" y="456840"/>
                <a:chExt cx="1316520" cy="1237320"/>
              </a:xfrm>
            </p:grpSpPr>
            <p:sp>
              <p:nvSpPr>
                <p:cNvPr id="194" name="Freeform 86"/>
                <p:cNvSpPr/>
                <p:nvPr/>
              </p:nvSpPr>
              <p:spPr>
                <a:xfrm rot="1419600">
                  <a:off x="7872840" y="730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87"/>
                <p:cNvSpPr/>
                <p:nvPr/>
              </p:nvSpPr>
              <p:spPr>
                <a:xfrm rot="1419600">
                  <a:off x="7953840" y="93852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14" h="5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88"/>
                <p:cNvSpPr/>
                <p:nvPr/>
              </p:nvSpPr>
              <p:spPr>
                <a:xfrm rot="1419600">
                  <a:off x="7996680" y="784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89"/>
                <p:cNvSpPr/>
                <p:nvPr/>
              </p:nvSpPr>
              <p:spPr>
                <a:xfrm rot="1419600">
                  <a:off x="7373880" y="628920"/>
                  <a:ext cx="1046160" cy="89244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440"/>
                    <a:gd name="textAreaBottom" fmla="*/ 892800 h 8924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Freeform 73"/>
              <p:cNvSpPr/>
              <p:nvPr/>
            </p:nvSpPr>
            <p:spPr>
              <a:xfrm rot="1542000">
                <a:off x="7057800" y="3703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1757">
                    <a:moveTo>
                      <a:pt x="0" y="0"/>
                    </a:moveTo>
                    <a:lnTo>
                      <a:pt x="0" y="0"/>
                    </a:lnTo>
                    <a:lnTo>
                      <a:pt x="0" y="1757"/>
                    </a:lnTo>
                    <a:lnTo>
                      <a:pt x="0" y="17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3"/>
              <p:cNvGrpSpPr/>
              <p:nvPr/>
            </p:nvGrpSpPr>
            <p:grpSpPr>
              <a:xfrm>
                <a:off x="7833600" y="4215960"/>
                <a:ext cx="1351080" cy="1224360"/>
                <a:chOff x="7833600" y="4215960"/>
                <a:chExt cx="1351080" cy="1224360"/>
              </a:xfrm>
            </p:grpSpPr>
            <p:sp>
              <p:nvSpPr>
                <p:cNvPr id="200" name="Freeform 79"/>
                <p:cNvSpPr/>
                <p:nvPr/>
              </p:nvSpPr>
              <p:spPr>
                <a:xfrm rot="1645200">
                  <a:off x="8359200" y="4886280"/>
                  <a:ext cx="125280" cy="18432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80"/>
                <p:cNvSpPr/>
                <p:nvPr/>
              </p:nvSpPr>
              <p:spPr>
                <a:xfrm rot="1645200">
                  <a:off x="8434440" y="50929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535" h="5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1"/>
                <p:cNvSpPr/>
                <p:nvPr/>
              </p:nvSpPr>
              <p:spPr>
                <a:xfrm rot="1645200">
                  <a:off x="8478360" y="4947840"/>
                  <a:ext cx="123840" cy="182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82"/>
                <p:cNvSpPr/>
                <p:nvPr/>
              </p:nvSpPr>
              <p:spPr>
                <a:xfrm rot="20491200">
                  <a:off x="7949880" y="4369680"/>
                  <a:ext cx="1118160" cy="916920"/>
                </a:xfrm>
                <a:custGeom>
                  <a:avLst/>
                  <a:gdLst>
                    <a:gd name="textAreaLeft" fmla="*/ 0 w 1118160"/>
                    <a:gd name="textAreaRight" fmla="*/ 1118520 w 1118160"/>
                    <a:gd name="textAreaTop" fmla="*/ 0 h 916920"/>
                    <a:gd name="textAreaBottom" fmla="*/ 917280 h 916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87"/>
              <p:cNvGrpSpPr/>
              <p:nvPr/>
            </p:nvGrpSpPr>
            <p:grpSpPr>
              <a:xfrm>
                <a:off x="0" y="5334120"/>
                <a:ext cx="1188000" cy="1523880"/>
                <a:chOff x="0" y="5334120"/>
                <a:chExt cx="1188000" cy="1523880"/>
              </a:xfrm>
            </p:grpSpPr>
            <p:sp>
              <p:nvSpPr>
                <p:cNvPr id="205" name="Freeform 21"/>
                <p:cNvSpPr/>
                <p:nvPr/>
              </p:nvSpPr>
              <p:spPr>
                <a:xfrm>
                  <a:off x="373320" y="5703840"/>
                  <a:ext cx="21960" cy="3063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392400" y="6015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23"/>
                <p:cNvSpPr/>
                <p:nvPr/>
              </p:nvSpPr>
              <p:spPr>
                <a:xfrm>
                  <a:off x="406440" y="5883480"/>
                  <a:ext cx="276120" cy="13464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4"/>
                <p:cNvSpPr/>
                <p:nvPr/>
              </p:nvSpPr>
              <p:spPr>
                <a:xfrm>
                  <a:off x="0" y="5334120"/>
                  <a:ext cx="1188000" cy="152388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880"/>
                    <a:gd name="textAreaBottom" fmla="*/ 1524240 h 152388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92"/>
              <p:cNvGrpSpPr/>
              <p:nvPr/>
            </p:nvGrpSpPr>
            <p:grpSpPr>
              <a:xfrm>
                <a:off x="0" y="2846160"/>
                <a:ext cx="930240" cy="1301760"/>
                <a:chOff x="0" y="2846160"/>
                <a:chExt cx="930240" cy="1301760"/>
              </a:xfrm>
            </p:grpSpPr>
            <p:sp>
              <p:nvSpPr>
                <p:cNvPr id="210" name="Freeform 49"/>
                <p:cNvSpPr/>
                <p:nvPr/>
              </p:nvSpPr>
              <p:spPr>
                <a:xfrm>
                  <a:off x="0" y="3446280"/>
                  <a:ext cx="83880" cy="13176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0"/>
                <p:cNvSpPr/>
                <p:nvPr/>
              </p:nvSpPr>
              <p:spPr>
                <a:xfrm>
                  <a:off x="87120" y="3584520"/>
                  <a:ext cx="360" cy="2880"/>
                </a:xfrm>
                <a:custGeom>
                  <a:avLst/>
                  <a:gdLst/>
                  <a:ahLst/>
                  <a:rect l="l" t="t" r="r" b="b"/>
                  <a:pathLst>
                    <a:path w="0" h="235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350"/>
                      </a:lnTo>
                      <a:lnTo>
                        <a:pt x="0" y="235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1"/>
                <p:cNvSpPr/>
                <p:nvPr/>
              </p:nvSpPr>
              <p:spPr>
                <a:xfrm>
                  <a:off x="101520" y="3255840"/>
                  <a:ext cx="215640" cy="3222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2200"/>
                    <a:gd name="textAreaBottom" fmla="*/ 322560 h 32220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2"/>
                <p:cNvSpPr/>
                <p:nvPr/>
              </p:nvSpPr>
              <p:spPr>
                <a:xfrm>
                  <a:off x="0" y="2846160"/>
                  <a:ext cx="930240" cy="130176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760"/>
                    <a:gd name="textAreaBottom" fmla="*/ 1302120 h 130176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rgbClr val="d8f2ab">
                    <a:alpha val="14000"/>
                  </a:srgbClr>
                </a:solidFill>
                <a:ln w="9360">
                  <a:solidFill>
                    <a:srgbClr val="abcb6a">
                      <a:alpha val="1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97"/>
              <p:cNvGrpSpPr/>
              <p:nvPr/>
            </p:nvGrpSpPr>
            <p:grpSpPr>
              <a:xfrm>
                <a:off x="4876920" y="5704560"/>
                <a:ext cx="1752480" cy="1153440"/>
                <a:chOff x="4876920" y="5704560"/>
                <a:chExt cx="1752480" cy="1153440"/>
              </a:xfrm>
            </p:grpSpPr>
            <p:sp>
              <p:nvSpPr>
                <p:cNvPr id="215" name="Freeform 28"/>
                <p:cNvSpPr/>
                <p:nvPr/>
              </p:nvSpPr>
              <p:spPr>
                <a:xfrm>
                  <a:off x="5599080" y="6247080"/>
                  <a:ext cx="15840" cy="3855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9"/>
                <p:cNvSpPr/>
                <p:nvPr/>
              </p:nvSpPr>
              <p:spPr>
                <a:xfrm>
                  <a:off x="5610240" y="6640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0"/>
                <p:cNvSpPr/>
                <p:nvPr/>
              </p:nvSpPr>
              <p:spPr>
                <a:xfrm>
                  <a:off x="5627880" y="6482160"/>
                  <a:ext cx="353880" cy="16164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1"/>
                <p:cNvSpPr/>
                <p:nvPr/>
              </p:nvSpPr>
              <p:spPr>
                <a:xfrm>
                  <a:off x="4876920" y="5704560"/>
                  <a:ext cx="1752480" cy="115344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153440"/>
                    <a:gd name="textAreaBottom" fmla="*/ 1153800 h 115344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rgbClr val="d8f2ab">
                    <a:alpha val="9000"/>
                  </a:srgbClr>
                </a:solidFill>
                <a:ln w="9360">
                  <a:solidFill>
                    <a:srgbClr val="feffff">
                      <a:alpha val="12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02"/>
              <p:cNvGrpSpPr/>
              <p:nvPr/>
            </p:nvGrpSpPr>
            <p:grpSpPr>
              <a:xfrm>
                <a:off x="7848720" y="1523520"/>
                <a:ext cx="1295280" cy="1685520"/>
                <a:chOff x="7848720" y="1523520"/>
                <a:chExt cx="1295280" cy="1685520"/>
              </a:xfrm>
            </p:grpSpPr>
            <p:sp>
              <p:nvSpPr>
                <p:cNvPr id="220" name="Freeform 70"/>
                <p:cNvSpPr/>
                <p:nvPr/>
              </p:nvSpPr>
              <p:spPr>
                <a:xfrm>
                  <a:off x="8456760" y="1991520"/>
                  <a:ext cx="296640" cy="195120"/>
                </a:xfrm>
                <a:custGeom>
                  <a:avLst/>
                  <a:gdLst>
                    <a:gd name="textAreaLeft" fmla="*/ 0 w 296640"/>
                    <a:gd name="textAreaRight" fmla="*/ 297000 w 29664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1"/>
                <p:cNvSpPr/>
                <p:nvPr/>
              </p:nvSpPr>
              <p:spPr>
                <a:xfrm>
                  <a:off x="8758440" y="2194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72"/>
                <p:cNvSpPr/>
                <p:nvPr/>
              </p:nvSpPr>
              <p:spPr>
                <a:xfrm>
                  <a:off x="8769600" y="1831320"/>
                  <a:ext cx="66600" cy="3506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848720" y="1523520"/>
                  <a:ext cx="1295280" cy="168552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685520"/>
                    <a:gd name="textAreaBottom" fmla="*/ 1685880 h 16855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2"/>
              <p:cNvGrpSpPr/>
              <p:nvPr/>
            </p:nvGrpSpPr>
            <p:grpSpPr>
              <a:xfrm>
                <a:off x="7679520" y="5943600"/>
                <a:ext cx="1331640" cy="914400"/>
                <a:chOff x="7679520" y="5943600"/>
                <a:chExt cx="1331640" cy="914400"/>
              </a:xfrm>
            </p:grpSpPr>
            <p:sp>
              <p:nvSpPr>
                <p:cNvPr id="225" name="Freeform 35"/>
                <p:cNvSpPr/>
                <p:nvPr/>
              </p:nvSpPr>
              <p:spPr>
                <a:xfrm>
                  <a:off x="7679520" y="6346800"/>
                  <a:ext cx="203040" cy="9504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4000" y="6446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89040" y="6215040"/>
                  <a:ext cx="14040" cy="2221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7920720" y="5943600"/>
                  <a:ext cx="1090440" cy="914400"/>
                </a:xfrm>
                <a:custGeom>
                  <a:avLst/>
                  <a:gdLst>
                    <a:gd name="textAreaLeft" fmla="*/ 0 w 1090440"/>
                    <a:gd name="textAreaRight" fmla="*/ 1090800 w 10904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715"/>
            <p:cNvGrpSpPr/>
            <p:nvPr/>
          </p:nvGrpSpPr>
          <p:grpSpPr>
            <a:xfrm>
              <a:off x="0" y="0"/>
              <a:ext cx="9211320" cy="6829560"/>
              <a:chOff x="0" y="0"/>
              <a:chExt cx="9211320" cy="6829560"/>
            </a:xfrm>
          </p:grpSpPr>
          <p:grpSp>
            <p:nvGrpSpPr>
              <p:cNvPr id="230" name="Group 129"/>
              <p:cNvGrpSpPr/>
              <p:nvPr/>
            </p:nvGrpSpPr>
            <p:grpSpPr>
              <a:xfrm>
                <a:off x="7696080" y="2819520"/>
                <a:ext cx="1404000" cy="3468600"/>
                <a:chOff x="7696080" y="2819520"/>
                <a:chExt cx="1404000" cy="3468600"/>
              </a:xfrm>
            </p:grpSpPr>
            <p:sp>
              <p:nvSpPr>
                <p:cNvPr id="231" name="Freeform 86"/>
                <p:cNvSpPr/>
                <p:nvPr/>
              </p:nvSpPr>
              <p:spPr>
                <a:xfrm rot="20119200">
                  <a:off x="8079120" y="3112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7"/>
                <p:cNvSpPr/>
                <p:nvPr/>
              </p:nvSpPr>
              <p:spPr>
                <a:xfrm rot="20119200">
                  <a:off x="822096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51" h="45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8"/>
                <p:cNvSpPr/>
                <p:nvPr/>
              </p:nvSpPr>
              <p:spPr>
                <a:xfrm rot="20119200">
                  <a:off x="8187120" y="3062160"/>
                  <a:ext cx="109440" cy="16488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9"/>
                <p:cNvSpPr/>
                <p:nvPr/>
              </p:nvSpPr>
              <p:spPr>
                <a:xfrm rot="20119200">
                  <a:off x="7817400" y="2975040"/>
                  <a:ext cx="917280" cy="782640"/>
                </a:xfrm>
                <a:custGeom>
                  <a:avLst/>
                  <a:gdLst>
                    <a:gd name="textAreaLeft" fmla="*/ 0 w 917280"/>
                    <a:gd name="textAreaRight" fmla="*/ 917640 w 91728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2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9"/>
                <p:cNvSpPr/>
                <p:nvPr/>
              </p:nvSpPr>
              <p:spPr>
                <a:xfrm rot="822600">
                  <a:off x="7925040" y="5250600"/>
                  <a:ext cx="1081080" cy="922320"/>
                </a:xfrm>
                <a:custGeom>
                  <a:avLst/>
                  <a:gdLst>
                    <a:gd name="textAreaLeft" fmla="*/ 0 w 1081080"/>
                    <a:gd name="textAreaRight" fmla="*/ 1081440 w 108108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134"/>
              <p:cNvGrpSpPr/>
              <p:nvPr/>
            </p:nvGrpSpPr>
            <p:grpSpPr>
              <a:xfrm>
                <a:off x="6854760" y="5524920"/>
                <a:ext cx="1110960" cy="1304640"/>
                <a:chOff x="6854760" y="5524920"/>
                <a:chExt cx="1110960" cy="1304640"/>
              </a:xfrm>
            </p:grpSpPr>
            <p:sp>
              <p:nvSpPr>
                <p:cNvPr id="237" name="Freeform 80"/>
                <p:cNvSpPr/>
                <p:nvPr/>
              </p:nvSpPr>
              <p:spPr>
                <a:xfrm rot="1992000">
                  <a:off x="7714800" y="5525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472" h="4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82"/>
                <p:cNvSpPr/>
                <p:nvPr/>
              </p:nvSpPr>
              <p:spPr>
                <a:xfrm rot="592800">
                  <a:off x="6916680" y="5941080"/>
                  <a:ext cx="986760" cy="809640"/>
                </a:xfrm>
                <a:custGeom>
                  <a:avLst/>
                  <a:gdLst>
                    <a:gd name="textAreaLeft" fmla="*/ 0 w 986760"/>
                    <a:gd name="textAreaRight" fmla="*/ 987120 w 98676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abcb6a">
                    <a:alpha val="10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54"/>
              <p:cNvGrpSpPr/>
              <p:nvPr/>
            </p:nvGrpSpPr>
            <p:grpSpPr>
              <a:xfrm>
                <a:off x="6317280" y="1055520"/>
                <a:ext cx="1840320" cy="1753560"/>
                <a:chOff x="6317280" y="1055520"/>
                <a:chExt cx="1840320" cy="1753560"/>
              </a:xfrm>
            </p:grpSpPr>
            <p:sp>
              <p:nvSpPr>
                <p:cNvPr id="240" name="Freeform 72"/>
                <p:cNvSpPr/>
                <p:nvPr/>
              </p:nvSpPr>
              <p:spPr>
                <a:xfrm rot="2047200">
                  <a:off x="7162560" y="158904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3"/>
                <p:cNvSpPr/>
                <p:nvPr/>
              </p:nvSpPr>
              <p:spPr>
                <a:xfrm rot="2047200">
                  <a:off x="7253280" y="19015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4" h="134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47"/>
                      </a:lnTo>
                      <a:lnTo>
                        <a:pt x="0" y="134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4"/>
                <p:cNvSpPr/>
                <p:nvPr/>
              </p:nvSpPr>
              <p:spPr>
                <a:xfrm rot="2047200">
                  <a:off x="7329240" y="170172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5"/>
                <p:cNvSpPr/>
                <p:nvPr/>
              </p:nvSpPr>
              <p:spPr>
                <a:xfrm rot="2047200">
                  <a:off x="6508800" y="1366560"/>
                  <a:ext cx="1456920" cy="1131120"/>
                </a:xfrm>
                <a:custGeom>
                  <a:avLst/>
                  <a:gdLst>
                    <a:gd name="textAreaLeft" fmla="*/ 0 w 1456920"/>
                    <a:gd name="textAreaRight" fmla="*/ 1457280 w 1456920"/>
                    <a:gd name="textAreaTop" fmla="*/ 0 h 1131120"/>
                    <a:gd name="textAreaBottom" fmla="*/ 1131480 h 11311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9360">
                  <a:solidFill>
                    <a:srgbClr val="d8f2ab">
                      <a:alpha val="1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64"/>
              <p:cNvGrpSpPr/>
              <p:nvPr/>
            </p:nvGrpSpPr>
            <p:grpSpPr>
              <a:xfrm>
                <a:off x="8125920" y="3738600"/>
                <a:ext cx="1085400" cy="916200"/>
                <a:chOff x="8125920" y="3738600"/>
                <a:chExt cx="1085400" cy="916200"/>
              </a:xfrm>
            </p:grpSpPr>
            <p:sp>
              <p:nvSpPr>
                <p:cNvPr id="245" name="Freeform 72"/>
                <p:cNvSpPr/>
                <p:nvPr/>
              </p:nvSpPr>
              <p:spPr>
                <a:xfrm rot="20119800">
                  <a:off x="8498160" y="40240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73"/>
                <p:cNvSpPr/>
                <p:nvPr/>
              </p:nvSpPr>
              <p:spPr>
                <a:xfrm rot="20119800">
                  <a:off x="8656560" y="41763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44" h="8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87"/>
                      </a:lnTo>
                      <a:lnTo>
                        <a:pt x="0" y="88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4"/>
                <p:cNvSpPr/>
                <p:nvPr/>
              </p:nvSpPr>
              <p:spPr>
                <a:xfrm rot="20119800">
                  <a:off x="8618760" y="39682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5"/>
                <p:cNvSpPr/>
                <p:nvPr/>
              </p:nvSpPr>
              <p:spPr>
                <a:xfrm rot="20932800">
                  <a:off x="8188560" y="3823920"/>
                  <a:ext cx="959760" cy="74520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5200"/>
                    <a:gd name="textAreaBottom" fmla="*/ 745560 h 7452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250" name="Freeform 42"/>
                <p:cNvSpPr/>
                <p:nvPr/>
              </p:nvSpPr>
              <p:spPr>
                <a:xfrm>
                  <a:off x="387360" y="1444320"/>
                  <a:ext cx="357120" cy="19188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3"/>
                <p:cNvSpPr/>
                <p:nvPr/>
              </p:nvSpPr>
              <p:spPr>
                <a:xfrm>
                  <a:off x="750600" y="1641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4"/>
                <p:cNvSpPr/>
                <p:nvPr/>
              </p:nvSpPr>
              <p:spPr>
                <a:xfrm>
                  <a:off x="760320" y="122544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53"/>
              <p:cNvGrpSpPr/>
              <p:nvPr/>
            </p:nvGrpSpPr>
            <p:grpSpPr>
              <a:xfrm>
                <a:off x="0" y="4273560"/>
                <a:ext cx="1192320" cy="1365120"/>
                <a:chOff x="0" y="4273560"/>
                <a:chExt cx="1192320" cy="1365120"/>
              </a:xfrm>
            </p:grpSpPr>
            <p:sp>
              <p:nvSpPr>
                <p:cNvPr id="255" name="Freeform 56"/>
                <p:cNvSpPr/>
                <p:nvPr/>
              </p:nvSpPr>
              <p:spPr>
                <a:xfrm>
                  <a:off x="399960" y="4638600"/>
                  <a:ext cx="14040" cy="3618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57"/>
                <p:cNvSpPr/>
                <p:nvPr/>
              </p:nvSpPr>
              <p:spPr>
                <a:xfrm>
                  <a:off x="439560" y="4930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58"/>
                <p:cNvSpPr/>
                <p:nvPr/>
              </p:nvSpPr>
              <p:spPr>
                <a:xfrm>
                  <a:off x="415800" y="4870440"/>
                  <a:ext cx="334800" cy="14112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9"/>
                <p:cNvSpPr/>
                <p:nvPr/>
              </p:nvSpPr>
              <p:spPr>
                <a:xfrm>
                  <a:off x="0" y="4273560"/>
                  <a:ext cx="1192320" cy="136512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5120"/>
                    <a:gd name="textAreaBottom" fmla="*/ 1365480 h 136512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58"/>
              <p:cNvGrpSpPr/>
              <p:nvPr/>
            </p:nvGrpSpPr>
            <p:grpSpPr>
              <a:xfrm>
                <a:off x="7366680" y="0"/>
                <a:ext cx="1266480" cy="990360"/>
                <a:chOff x="7366680" y="0"/>
                <a:chExt cx="1266480" cy="990360"/>
              </a:xfrm>
            </p:grpSpPr>
            <p:sp>
              <p:nvSpPr>
                <p:cNvPr id="260" name="Freeform 63"/>
                <p:cNvSpPr/>
                <p:nvPr/>
              </p:nvSpPr>
              <p:spPr>
                <a:xfrm>
                  <a:off x="7700040" y="0"/>
                  <a:ext cx="185400" cy="1886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7887240" y="193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7895160" y="0"/>
                  <a:ext cx="85680" cy="18576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7366680" y="0"/>
                  <a:ext cx="1266480" cy="990360"/>
                </a:xfrm>
                <a:custGeom>
                  <a:avLst/>
                  <a:gdLst>
                    <a:gd name="textAreaLeft" fmla="*/ 0 w 1266480"/>
                    <a:gd name="textAreaRight" fmla="*/ 1266840 w 126648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63"/>
              <p:cNvGrpSpPr/>
              <p:nvPr/>
            </p:nvGrpSpPr>
            <p:grpSpPr>
              <a:xfrm>
                <a:off x="8323920" y="990360"/>
                <a:ext cx="819720" cy="1066680"/>
                <a:chOff x="8323920" y="990360"/>
                <a:chExt cx="819720" cy="1066680"/>
              </a:xfrm>
            </p:grpSpPr>
            <p:sp>
              <p:nvSpPr>
                <p:cNvPr id="265" name="Freeform 70"/>
                <p:cNvSpPr/>
                <p:nvPr/>
              </p:nvSpPr>
              <p:spPr>
                <a:xfrm>
                  <a:off x="8709120" y="1287000"/>
                  <a:ext cx="186840" cy="12204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71"/>
                <p:cNvSpPr/>
                <p:nvPr/>
              </p:nvSpPr>
              <p:spPr>
                <a:xfrm>
                  <a:off x="8899560" y="1415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72"/>
                <p:cNvSpPr/>
                <p:nvPr/>
              </p:nvSpPr>
              <p:spPr>
                <a:xfrm>
                  <a:off x="8907480" y="1185480"/>
                  <a:ext cx="41040" cy="2221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73"/>
                <p:cNvSpPr/>
                <p:nvPr/>
              </p:nvSpPr>
              <p:spPr>
                <a:xfrm>
                  <a:off x="8323920" y="990360"/>
                  <a:ext cx="819720" cy="1066680"/>
                </a:xfrm>
                <a:custGeom>
                  <a:avLst/>
                  <a:gdLst>
                    <a:gd name="textAreaLeft" fmla="*/ 0 w 819720"/>
                    <a:gd name="textAreaRight" fmla="*/ 820080 w 81972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sp>
          <p:nvSpPr>
            <p:cNvPr id="270" name="Oval 31"/>
            <p:cNvSpPr/>
            <p:nvPr/>
          </p:nvSpPr>
          <p:spPr>
            <a:xfrm>
              <a:off x="5478480" y="1438200"/>
              <a:ext cx="1087560" cy="1085760"/>
            </a:xfrm>
            <a:custGeom>
              <a:avLst/>
              <a:gdLst>
                <a:gd name="textAreaLeft" fmla="*/ 159120 w 1087560"/>
                <a:gd name="textAreaRight" fmla="*/ 928440 w 1087560"/>
                <a:gd name="textAreaTop" fmla="*/ 158760 h 1085760"/>
                <a:gd name="textAreaBottom" fmla="*/ 927000 h 1085760"/>
              </a:gdLst>
              <a:ahLst/>
              <a:rect l="textAreaLeft" t="textAreaTop" r="textAreaRight" b="textAreaBottom"/>
              <a:pathLst>
                <a:path w="1087020" h="1085914">
                  <a:moveTo>
                    <a:pt x="0" y="542957"/>
                  </a:moveTo>
                  <a:lnTo>
                    <a:pt x="0" y="542957"/>
                  </a:lnTo>
                  <a:arcTo wR="543510" hR="542957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32"/>
            <p:cNvSpPr/>
            <p:nvPr/>
          </p:nvSpPr>
          <p:spPr>
            <a:xfrm>
              <a:off x="5650200" y="1412640"/>
              <a:ext cx="830160" cy="830160"/>
            </a:xfrm>
            <a:custGeom>
              <a:avLst/>
              <a:gdLst>
                <a:gd name="textAreaLeft" fmla="*/ 121320 w 830160"/>
                <a:gd name="textAreaRight" fmla="*/ 708840 w 830160"/>
                <a:gd name="textAreaTop" fmla="*/ 121320 h 830160"/>
                <a:gd name="textAreaBottom" fmla="*/ 708840 h 830160"/>
              </a:gdLst>
              <a:ahLst/>
              <a:rect l="textAreaLeft" t="textAreaTop" r="textAreaRight" b="textAreaBottom"/>
              <a:pathLst>
                <a:path w="829944" h="830312">
                  <a:moveTo>
                    <a:pt x="0" y="415156"/>
                  </a:moveTo>
                  <a:lnTo>
                    <a:pt x="0" y="415156"/>
                  </a:lnTo>
                  <a:arcTo wR="414972" hR="415156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5256360" y="1895400"/>
              <a:ext cx="601560" cy="601560"/>
            </a:xfrm>
            <a:custGeom>
              <a:avLst/>
              <a:gdLst>
                <a:gd name="textAreaLeft" fmla="*/ 87840 w 601560"/>
                <a:gd name="textAreaRight" fmla="*/ 513720 w 601560"/>
                <a:gd name="textAreaTop" fmla="*/ 87840 h 601560"/>
                <a:gd name="textAreaBottom" fmla="*/ 513720 h 601560"/>
              </a:gdLst>
              <a:ahLst/>
              <a:rect l="textAreaLeft" t="textAreaTop" r="textAreaRight" b="textAreaBottom"/>
              <a:pathLst>
                <a:path w="601431" h="601698">
                  <a:moveTo>
                    <a:pt x="0" y="300849"/>
                  </a:moveTo>
                  <a:lnTo>
                    <a:pt x="0" y="300849"/>
                  </a:lnTo>
                  <a:arcTo wR="300716" hR="300849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0"/>
            <p:cNvSpPr/>
            <p:nvPr/>
          </p:nvSpPr>
          <p:spPr>
            <a:xfrm>
              <a:off x="5424480" y="1811160"/>
              <a:ext cx="488880" cy="490320"/>
            </a:xfrm>
            <a:custGeom>
              <a:avLst/>
              <a:gdLst>
                <a:gd name="textAreaLeft" fmla="*/ 71640 w 488880"/>
                <a:gd name="textAreaRight" fmla="*/ 417240 w 488880"/>
                <a:gd name="textAreaTop" fmla="*/ 71640 h 490320"/>
                <a:gd name="textAreaBottom" fmla="*/ 418680 h 490320"/>
              </a:gdLst>
              <a:ahLst/>
              <a:rect l="textAreaLeft" t="textAreaTop" r="textAreaRight" b="textAreaBottom"/>
              <a:pathLst>
                <a:path w="488763" h="490566">
                  <a:moveTo>
                    <a:pt x="0" y="245283"/>
                  </a:moveTo>
                  <a:lnTo>
                    <a:pt x="0" y="245283"/>
                  </a:lnTo>
                  <a:arcTo wR="244381" hR="245283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7"/>
            <p:cNvSpPr/>
            <p:nvPr/>
          </p:nvSpPr>
          <p:spPr>
            <a:xfrm>
              <a:off x="4718160" y="2084400"/>
              <a:ext cx="257040" cy="255600"/>
            </a:xfrm>
            <a:custGeom>
              <a:avLst/>
              <a:gdLst>
                <a:gd name="textAreaLeft" fmla="*/ 37440 w 257040"/>
                <a:gd name="textAreaRight" fmla="*/ 219600 w 257040"/>
                <a:gd name="textAreaTop" fmla="*/ 37440 h 255600"/>
                <a:gd name="textAreaBottom" fmla="*/ 218160 h 255600"/>
              </a:gdLst>
              <a:ahLst/>
              <a:rect l="textAreaLeft" t="textAreaTop" r="textAreaRight" b="textAreaBottom"/>
              <a:pathLst>
                <a:path w="257076" h="255602">
                  <a:moveTo>
                    <a:pt x="0" y="127801"/>
                  </a:moveTo>
                  <a:lnTo>
                    <a:pt x="0" y="127801"/>
                  </a:lnTo>
                  <a:arcTo wR="128538" hR="127801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6132600" y="993600"/>
              <a:ext cx="255600" cy="257040"/>
            </a:xfrm>
            <a:custGeom>
              <a:avLst/>
              <a:gdLst>
                <a:gd name="textAreaLeft" fmla="*/ 37440 w 255600"/>
                <a:gd name="textAreaRight" fmla="*/ 218160 w 255600"/>
                <a:gd name="textAreaTop" fmla="*/ 37440 h 257040"/>
                <a:gd name="textAreaBottom" fmla="*/ 219600 h 257040"/>
              </a:gdLst>
              <a:ahLst/>
              <a:rect l="textAreaLeft" t="textAreaTop" r="textAreaRight" b="textAreaBottom"/>
              <a:pathLst>
                <a:path w="255489" h="257190">
                  <a:moveTo>
                    <a:pt x="0" y="128595"/>
                  </a:moveTo>
                  <a:lnTo>
                    <a:pt x="0" y="128595"/>
                  </a:lnTo>
                  <a:arcTo wR="127745" hR="128595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3"/>
            <p:cNvSpPr/>
            <p:nvPr/>
          </p:nvSpPr>
          <p:spPr>
            <a:xfrm>
              <a:off x="5059440" y="1895400"/>
              <a:ext cx="196560" cy="196560"/>
            </a:xfrm>
            <a:custGeom>
              <a:avLst/>
              <a:gdLst>
                <a:gd name="textAreaLeft" fmla="*/ 28800 w 196560"/>
                <a:gd name="textAreaRight" fmla="*/ 167760 w 196560"/>
                <a:gd name="textAreaTop" fmla="*/ 28800 h 196560"/>
                <a:gd name="textAreaBottom" fmla="*/ 167760 h 196560"/>
              </a:gdLst>
              <a:ahLst/>
              <a:rect l="textAreaLeft" t="textAreaTop" r="textAreaRight" b="textAreaBottom"/>
              <a:pathLst>
                <a:path w="196775" h="196862">
                  <a:moveTo>
                    <a:pt x="0" y="98431"/>
                  </a:moveTo>
                  <a:lnTo>
                    <a:pt x="0" y="98431"/>
                  </a:lnTo>
                  <a:arcTo wR="98387" hR="98431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4"/>
            <p:cNvSpPr/>
            <p:nvPr/>
          </p:nvSpPr>
          <p:spPr>
            <a:xfrm>
              <a:off x="6148440" y="1061640"/>
              <a:ext cx="198360" cy="196560"/>
            </a:xfrm>
            <a:custGeom>
              <a:avLst/>
              <a:gdLst>
                <a:gd name="textAreaLeft" fmla="*/ 28800 w 198360"/>
                <a:gd name="textAreaRight" fmla="*/ 169560 w 198360"/>
                <a:gd name="textAreaTop" fmla="*/ 28800 h 196560"/>
                <a:gd name="textAreaBottom" fmla="*/ 167760 h 196560"/>
              </a:gdLst>
              <a:ahLst/>
              <a:rect l="textAreaLeft" t="textAreaTop" r="textAreaRight" b="textAreaBottom"/>
              <a:pathLst>
                <a:path w="198361" h="196862">
                  <a:moveTo>
                    <a:pt x="0" y="98431"/>
                  </a:moveTo>
                  <a:lnTo>
                    <a:pt x="0" y="98431"/>
                  </a:lnTo>
                  <a:arcTo wR="99181" hR="98431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AD8B-4A85-4EA3-BA1F-8F493CB97774}" type="datetime">
              <a:rPr b="0" lang="es-ES" sz="900" spc="-1" strike="noStrike">
                <a:solidFill>
                  <a:srgbClr val="404040"/>
                </a:solidFill>
                <a:latin typeface="Verdana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2F77-A2B9-4135-A539-B439934FFCF1}" type="slidenum">
              <a:rPr b="0" lang="es-E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404040"/>
                </a:solidFill>
                <a:latin typeface="MV Boli"/>
                <a:ea typeface="MV Boli"/>
              </a:rPr>
              <a:t>TEMA 12:IMPACTOS EN LA BIOSFERA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 u="sng">
                <a:solidFill>
                  <a:srgbClr val="404040"/>
                </a:solidFill>
                <a:uFillTx/>
                <a:latin typeface="MV Boli"/>
                <a:ea typeface="MV Boli"/>
              </a:rPr>
              <a:t>LA BIODIVERSIDAD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086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700" spc="-1" strike="noStrike">
                <a:solidFill>
                  <a:srgbClr val="404040"/>
                </a:solidFill>
                <a:latin typeface="MV Boli"/>
                <a:ea typeface="MV Boli"/>
              </a:rPr>
              <a:t>Distribución de la biodiversidad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Lejos de ser uniforme sí es apreciable un gradiente positivo desde los polos al ecuador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SELVAS TROPICALES albergan a más de la mitad de las especies conocidas, constituyendo tan sólo el 6% de la superficie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Otros ambientes con gran acumulación: arrecifes coralinos, praderas marinas, matorral sudafricano y suroccidente de Australi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Existen las llamadas ÁREAS DE ENDEMISMOS: zonas donde prolongadas condiciones de aislamiento y evolución propia han conducido a la existencia de flora y fauna peculiares, con especies exclusivas. Ej.: áreas de montaña e islas como Canarias, Madagascar o las Galápagos (10% aves conocidas)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404040"/>
                </a:solidFill>
                <a:latin typeface="Verdana"/>
              </a:rPr>
              <a:t>HACIENDO NÚMEROS…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Verdana"/>
              </a:rPr>
              <a:t>En la superficie de 10 campos de fútbol en la selva de Borneo encontramos más especies de árboles que en América al complet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Verdana"/>
              </a:rPr>
              <a:t>En un solo árbol en Perú se han contabilizado tantas especies de hormigas como el total que habita en las islas Británica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Verdana"/>
              </a:rPr>
              <a:t>Panamá, 6 veces más pequeña que España, tiene identificados 1424 especies de vertebrados frente a los 534 que tenemos aquí. Hay que tener en cuenta que nuestro país es uno de los enclaves europeos con mayor biodiversidad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5" name="3 Marcador de contenido" descr=""/>
          <p:cNvPicPr/>
          <p:nvPr/>
        </p:nvPicPr>
        <p:blipFill>
          <a:blip r:embed="rId1"/>
          <a:stretch/>
        </p:blipFill>
        <p:spPr>
          <a:xfrm>
            <a:off x="1763640" y="1123920"/>
            <a:ext cx="5904000" cy="444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1247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EL CASO DE ESPAÑA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1268280"/>
            <a:ext cx="712476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aís europeo con mayor diversidad de especies, gracias a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Variabilidad paisajística, orográfica y climátic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osición cercana a Áfric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Reciente historia natural con menor efecto de los hielos glaciare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80.000 especies: 8.000-9.000 plantas vasculares (80% de la UE, con 1.500 endémicas) 20.000 hongos, líquenes y musgos, 55.000 animales entre los que hay unos 100 mamíferos, 400 aves y 4.500 mariposas (400 endémicas)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royectos de inventariado y descripción: Flora Ibérica, Flora Micológica Ibérica, Fauna Ibérica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Gran problema: amenaza de extinción (recogido en listas rojas)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404040"/>
                </a:solidFill>
                <a:latin typeface="MV Boli"/>
                <a:ea typeface="MV Boli"/>
              </a:rPr>
              <a:t>IMPORTANCIA DE LA BIODIVERSIDAD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09800" y="1806120"/>
            <a:ext cx="7124400" cy="47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LA VIDA DEL HOMBRE EN LA TIERRA SERÍA IMPOSIBLE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DE ELLA DEPENDEN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La fotosíntesis, responsable a su vez de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roducción primaria. Base de toda red trófica de los ecosistemas, incluyendo el eslabón humano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roducción de 02 y eliminación de CO2. Imprescindible para la respiración de los organismos aerobios. Contribuye a mantener la composición gaseosa atmosférica y la estabilidad climátic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Formación y mantenimiento de los suelos. Gracias a ello existen las plantas y por extensión, la vid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9800" y="40752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980640"/>
            <a:ext cx="7124760" cy="50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Ciclos biogeoquímicos, por los cuales se recicla la materia de manera natural. Destacan la mineralización y saneamiento de productos orgánicos de desecho, lo que no sería posible sin microorganismos, hongos, artrópodos y otros invertebrados. Implicaría la inhabitabilidad de la biosfera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Los flujos energétic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olinización y diseminación de semill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Control de la erosión del suelo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Control de poblaciones: la biodiversidad contribuye a mantener ajustes entre distintas poblaciones que evita crecimientos explosiv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Alimentación humana (depende un 99% de sustancias producidas directamente por seres vivos) y obtención de productos farmacéuticos (más del 40% de los medicamentos comercializados)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12476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MV Boli"/>
                <a:ea typeface="MV Boli"/>
              </a:rPr>
              <a:t>¿CUÁNTOS NUEVOS PRODUCTOS (FARMACÉUTICOS,ALIMENTARIOS, INDUSTRIALES, ETC.) PROCEDENTES DE LA BIODIVERSIDAD SE PERDERÁN CON LA DESAPARICIÓN DE LAS NUEVAS ESPECIES, HOY TODAVÍA DESCONOCIDAS?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9800" y="549360"/>
            <a:ext cx="7124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800" spc="-1" strike="noStrike">
                <a:solidFill>
                  <a:srgbClr val="404040"/>
                </a:solidFill>
                <a:latin typeface="MV Boli"/>
                <a:ea typeface="MV Boli"/>
              </a:rPr>
              <a:t>RITMO DE LA DESAPARICIÓN DE ESPECIES</a:t>
            </a:r>
            <a:endParaRPr b="0" lang="en-US" sz="3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09800" y="2636640"/>
            <a:ext cx="712440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tualmente, se calcula que están desapareciendo unas 100.000 especies al año y que de seguir con este ritmo, en unos 30 años habrá desaparecido 1/4 de las especies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ayor pérdida de biodiversidad corresponde a la destrucción de uno de los ecosistemas mas ricos en la Tierra: el bosque tropical, del cual desaparecen unos 20 millones de hectáreas al año, que albergan una biodiversidad equivalente al total de España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ayor parte de las especies que se extinguen son desconocidas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99% de las extinciones tiene un único causante: el ser humano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56" name="Picture 2" descr="C:\Documents and Settings\Santii\Mis documentos\Mis imágenes\tala.jpg"/>
          <p:cNvPicPr/>
          <p:nvPr/>
        </p:nvPicPr>
        <p:blipFill>
          <a:blip r:embed="rId1"/>
          <a:stretch/>
        </p:blipFill>
        <p:spPr>
          <a:xfrm>
            <a:off x="1042920" y="1125360"/>
            <a:ext cx="6408720" cy="48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404040"/>
                </a:solidFill>
                <a:latin typeface="MV Boli"/>
                <a:ea typeface="MV Boli"/>
              </a:rPr>
              <a:t>CAUSAS HUMANAS DE LA DESAPARICIÓN DE ESPECIES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09800" y="3357360"/>
            <a:ext cx="7124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6000"/>
          </a:bodyPr>
          <a:p>
            <a:pPr marL="157680" indent="-157680">
              <a:buClr>
                <a:srgbClr val="40404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terioro, destrucción y fragmentación de los hábitat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Desecación de humedales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onstrucción de autopistas (Osos asturianos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Destrucción de bosqu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onstrucción de embalses que inundan vall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troducción de especies exótica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angrejo americano en Europ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onejos en Australi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obreexplotación de especi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Deforestación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Sobrepesc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aminación de suelos, atmósfera y agua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mbio climátic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tensificación actividad ganadera y foresta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700" spc="-1" strike="noStrike">
                <a:solidFill>
                  <a:srgbClr val="404040"/>
                </a:solidFill>
                <a:latin typeface="MV Boli"/>
                <a:ea typeface="MV Boli"/>
              </a:rPr>
              <a:t>DIVERSIDAD BIOLÓGICA o BIODIVERSIDAD</a:t>
            </a:r>
            <a:endParaRPr b="0" lang="en-US" sz="47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COMO TÉRMINO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Es un neologismo que se generalizó y empezó a tomar connotaciones de problema ambiental a partir de la conferencia de Naciones Unidas sobre Medio Ambiente y Desarrollo celebrada en Río de Janeiro en 1992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843280" y="3946680"/>
            <a:ext cx="3900600" cy="27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404040"/>
                </a:solidFill>
                <a:latin typeface="MV Boli"/>
                <a:ea typeface="MV Boli"/>
              </a:rPr>
              <a:t>CONSECUENCIAS DE LA PÉRDIDA DE BIODIVERSIDAD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Pérdida de posibles curas a enfermedades incurables hoy en día (SIDA, varios tipos de cáncer…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Hambre en el mund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Inundaciones (Consecuencia de la deforestación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Crisis económic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Desertificación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1247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2" name="Picture 2" descr="C:\Documents and Settings\Santii\Mis documentos\Mis imágenes\Oso Pardo.gif"/>
          <p:cNvPicPr/>
          <p:nvPr/>
        </p:nvPicPr>
        <p:blipFill>
          <a:blip r:embed="rId1"/>
          <a:stretch/>
        </p:blipFill>
        <p:spPr>
          <a:xfrm>
            <a:off x="1835280" y="2349360"/>
            <a:ext cx="52578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4" name="Picture 2" descr="C:\Documents and Settings\Santii\Mis documentos\Mis imágenes\untitled.bmp"/>
          <p:cNvPicPr/>
          <p:nvPr/>
        </p:nvPicPr>
        <p:blipFill>
          <a:blip r:embed="rId1"/>
          <a:stretch/>
        </p:blipFill>
        <p:spPr>
          <a:xfrm>
            <a:off x="1763640" y="2421000"/>
            <a:ext cx="5256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6" name="Picture 2" descr="C:\Documents and Settings\Santii\Mis documentos\Mis imágenes\img_3.jpg"/>
          <p:cNvPicPr/>
          <p:nvPr/>
        </p:nvPicPr>
        <p:blipFill>
          <a:blip r:embed="rId1"/>
          <a:stretch/>
        </p:blipFill>
        <p:spPr>
          <a:xfrm>
            <a:off x="2190600" y="2112840"/>
            <a:ext cx="476280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8" name="Picture 2" descr="C:\Documents and Settings\Santii\Mis documentos\Mis imágenes\cicnig.jpg"/>
          <p:cNvPicPr/>
          <p:nvPr/>
        </p:nvPicPr>
        <p:blipFill>
          <a:blip r:embed="rId1"/>
          <a:stretch/>
        </p:blipFill>
        <p:spPr>
          <a:xfrm>
            <a:off x="2895480" y="1989000"/>
            <a:ext cx="33530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0" name="Picture 2" descr="C:\Documents and Settings\Santii\Mis documentos\Mis imágenes\Urogallo.jpg"/>
          <p:cNvPicPr/>
          <p:nvPr/>
        </p:nvPicPr>
        <p:blipFill>
          <a:blip r:embed="rId1"/>
          <a:stretch/>
        </p:blipFill>
        <p:spPr>
          <a:xfrm>
            <a:off x="3143160" y="2243160"/>
            <a:ext cx="285768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L MUNDO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2" name="Picture 2" descr="C:\Documents and Settings\Santii\Mis documentos\Mis imágenes\cc26.jpg"/>
          <p:cNvPicPr/>
          <p:nvPr/>
        </p:nvPicPr>
        <p:blipFill>
          <a:blip r:embed="rId1"/>
          <a:stretch/>
        </p:blipFill>
        <p:spPr>
          <a:xfrm>
            <a:off x="2050920" y="2403360"/>
            <a:ext cx="47530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L MUNDO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4" name="Picture 2" descr="C:\Documents and Settings\Santii\Mis documentos\Mis imágenes\panda-gigante.jpg"/>
          <p:cNvPicPr/>
          <p:nvPr/>
        </p:nvPicPr>
        <p:blipFill>
          <a:blip r:embed="rId1"/>
          <a:stretch/>
        </p:blipFill>
        <p:spPr>
          <a:xfrm>
            <a:off x="2190600" y="2300400"/>
            <a:ext cx="47628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L MUNDO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6" name="Picture 2" descr="C:\Documents and Settings\Santii\Mis documentos\Mis imágenes\carey02.jpg"/>
          <p:cNvPicPr/>
          <p:nvPr/>
        </p:nvPicPr>
        <p:blipFill>
          <a:blip r:embed="rId1"/>
          <a:stretch/>
        </p:blipFill>
        <p:spPr>
          <a:xfrm>
            <a:off x="1835280" y="2532240"/>
            <a:ext cx="496872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404040"/>
                </a:solidFill>
                <a:latin typeface="MV Boli"/>
                <a:ea typeface="MV Boli"/>
              </a:rPr>
              <a:t>ACTUACIÓN PARA LA PROTECCIÓN DE ESPECIES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1601280"/>
            <a:ext cx="71247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Protección de especies en peligro de extinción: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catalogación de las distintas especies en peligro de extinción, establecimiento de una legislación para su protección y cumplimiento de la misma, tanto a nivel nacional como internacional. Se deberá evitar el comercio indiscriminado de las mima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Establecimiento de sistemas de explotación sostenible: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leyes de caza y pesca, establecimiento de cotos y períodos de veda que eviten la sobreexplotación de las distintas especies animales y vegetale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Protección de los distintos ecosistemas: 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si queremos que una especie perdure, no solamente se debe de proteger a esa especie evitando su caza o captura, sino conservar sus hábitats naturales. A ello contribuye el establecimiento de Reservas de la Biosfera, Parques Nacionales y espacios protegidos. Estos, además, generan turismo, permiten la investigación científica y contribuyen al equilibrio natural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Creación de bancos de genes, jardines botánicos y fomento, para determinadas especies, de cría en cautividad: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Aunque no es la mejor solución puede contribuir a la perdurabilidad de ciertas especie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ts val="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A nivel personal, se deberá evitar el coleccionismo de especies vegetales o animales, tanto autóctonas como exóticas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; la adquisición de animales de compañía en riesgo de extinción o la introducción de especies exóticas en nuestros hábitat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404040"/>
                </a:solidFill>
                <a:latin typeface="MV Boli"/>
                <a:ea typeface="MV Boli"/>
              </a:rPr>
              <a:t>Aclara el concepto de desarrollo sostenibl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« Los seres humanos constituyen el centro de las preocupaciones relacionadas con el desarrollo sostenible. Tienen derecho a una vida saludable y productiva en armonía con la naturaleza. », (Principio 1) « Para alcanzar el desarrollo sostenible, la protección del medio ambiente debe ser parte del proceso de desarrollo y no puede ser considerado por separado ». (Principio 4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9800" y="10512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MV Boli"/>
              <a:ea typeface="MV Bol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9640" y="1628280"/>
            <a:ext cx="7124760" cy="48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Ocasión para adoptar un programa de acción para el siglo XXI, llamado Programa 21 o Agenda 21. plan detallado de acciones que deben ser acometidas a nivel mundial, nacional y local por entidades de la ONU, los gobiernos y por grupos principales particular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Se destacó el papel de los diferentes actores en la aplicación del desarrollo sostenible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Se aprobó la Convención sobre el Cambio Climático, que afirma la necesidad de reducir las emisiones de gases de efecto invernadero que condujo a la firma en 1997 del Protocolo de Kyot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Declaración sobre los Bosques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Convenio sobre la Diversidad Biológica, que supedita el uso de la herencia genética mundial a una serie de condiciones y presenta un primer nivel en este ámbit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¿QUÉ ES LA BIODIVERSIDAD?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1280" y="206028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Variabilidad de organismos de cualquier fuente, incluidos entre otros los ecosistemas terrestres, marinos, otros acuáticos y los complejos ecológicos de los que forman parte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V Boli"/>
                <a:ea typeface="MV Boli"/>
              </a:rPr>
              <a:t>COMPONENTES DE LA BIODIVERSIDAD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Diversidad ecológica o de ecosistemas: diferentes hábitats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Diversidad específica o de especies: entidades biológicas naturales con capacidad de intercambio genético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Diversidad genética: variabilidad de genes en poblaciones o individuos que les hace ser ligeramente diferentes y permite su evolución y adaptación al medio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32" name="4 Imagen" descr=""/>
          <p:cNvPicPr/>
          <p:nvPr/>
        </p:nvPicPr>
        <p:blipFill>
          <a:blip r:embed="rId1"/>
          <a:stretch/>
        </p:blipFill>
        <p:spPr>
          <a:xfrm>
            <a:off x="4788000" y="1123920"/>
            <a:ext cx="3632040" cy="4753080"/>
          </a:xfrm>
          <a:prstGeom prst="rect">
            <a:avLst/>
          </a:prstGeom>
          <a:ln w="0">
            <a:noFill/>
          </a:ln>
        </p:spPr>
      </p:pic>
      <p:pic>
        <p:nvPicPr>
          <p:cNvPr id="333" name="6 Marcador de contenido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36896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676440"/>
            <a:ext cx="820908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404040"/>
                </a:solidFill>
                <a:latin typeface="MV Boli"/>
                <a:ea typeface="MV Boli"/>
              </a:rPr>
              <a:t>ORIGEN DE LA BIODIVERSIDAD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La biodiversidad es el fruto de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Millones de años de evolució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Adaptación de la vida a los distintos ambiente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Selección natural (descrito por Charles Darwin)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ESTUDIO DE LA BIODIVERSIDAD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ELABORACIÓN DE CATÁLOGOS FLORÍSTICOS O FAUNÍSTICOS BASADOS EN: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Fuentes bibliográficas existent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Trabajos de campo: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Para los vegetales dificultad mínima, de localización según las estacion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Para los animales se recurre a batidas, reclamos, rastros, estaciones de censo, capturas y marcado de ejemplares y puntos de observación fotográfic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Magnitud de la biodiversidad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06064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Catalogadas y descritas 1’8 millones de especies aproximadamente. Coinciden con las más llamativas, de mayor tamaño y lugares de fácil acceso, mayoritariamente terrestres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Cada año se descubren unas 10.000 nuevas, de lugares cada vez más recónditos y correspondientes a microorganismos, hongos o invertebrados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Estimaciones van desde los 5 ó 40 millones hasta los 100 millones de especies, lo que nos da una idea de nuestro desconocimiento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3:04:55Z</dcterms:created>
  <dc:creator>santitax</dc:creator>
  <dc:description/>
  <dc:language>en-US</dc:language>
  <cp:lastModifiedBy>santitax</cp:lastModifiedBy>
  <dcterms:modified xsi:type="dcterms:W3CDTF">2012-04-18T06:51:13Z</dcterms:modified>
  <cp:revision>23</cp:revision>
  <dc:subject/>
  <dc:title>DIVERSIDAD BIOLÓGICA o BIODIVERSIDAD</dc:title>
</cp:coreProperties>
</file>